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2AB-E15C-43F1-B80B-35D59498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F6E-20FB-4D8C-A783-8EBFB1B4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E4D-312F-4F3D-921C-E3B8CA43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F18-4F26-4D9B-B1C3-C55DB9F4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DC2-1635-4C3D-84E2-C03E96DE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C87-8AD2-4030-915E-A93BBF08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FF58-6889-47E7-B9E0-A763F6D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0EB-5173-43E9-94F8-A80B340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95B-1AE4-42ED-BA22-9A4AAB2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39B-5419-4188-91C3-7C8DDFF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61D4-9C6D-49E9-B7EE-DE24883C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2B5-9A59-402D-AD7C-6C232C4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60D-1C2D-4E2B-B6EC-73A082E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E1A-4C45-4A3C-8959-D0D471F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2045-782C-4860-B9A1-5543A49A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73F-4F10-4842-96DC-5C36432C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A2CE-1447-4435-ACBD-856C439C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DA7-1A6C-422F-ABF4-9CC3990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857-7D20-42D6-B2AA-9CD6AE1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E7A-7061-489B-89EB-0E6F65E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47B-EC96-44C0-B50E-6B5B10E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E43-BAC5-44FF-9254-10E664C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4A3-21F7-4FC7-8CAC-6FC137D0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D27-5EA2-4F1D-B757-04BA337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EE2-6E65-4076-BAD0-379467DC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968-2361-449E-9959-4906D3C3C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6600"/>
                </a:solidFill>
                <a:latin typeface="Times New Roman"/>
              </a:rPr>
              <a:t>The End of Traditional Society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Crises  (1300—14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were three Crises in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vision between Church and State, otherwis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00 Years W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France and Engl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lack Deat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ubonic Pl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Boniface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559040" cy="4724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869200" y="99072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has always been a struggle between King and the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pe did not want the clergy to be tax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result, in France, King Philip IV captured the Pope (Boniface VIII) and forced the Papacy to be controlled from Avig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me responded by electing a new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:  2 Po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did not know which Pope to place their faith, so many gave up on salvation al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359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379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986560" y="114300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100 Yea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The 100 Years War (1337—1450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ght between England and Fr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battles fought on French terri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was fought over l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supported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corched Earth Policy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 everything, leaving nothing for your enemy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nce lost most battles because of thei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ival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de, a code of behaviour for knigh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:  much of the land was destroyed, many cities devastated, lives were l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oath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956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marcello3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802400" cy="4810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190320" y="9907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lack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city9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136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wat-tyler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</a:rPr>
              <a:t>Spread of the Plague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5" name="msBD3b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8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Europe in 1555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7" name="central_europe_1555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agen_plague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black_death_survivors_tale_b" descr=""/>
          <p:cNvPicPr/>
          <p:nvPr/>
        </p:nvPicPr>
        <p:blipFill>
          <a:blip r:embed="rId1"/>
          <a:stretch/>
        </p:blipFill>
        <p:spPr>
          <a:xfrm>
            <a:off x="2000160" y="1332000"/>
            <a:ext cx="57722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apoimage3hell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3008160" cy="4925880"/>
          </a:xfrm>
          <a:prstGeom prst="rect">
            <a:avLst/>
          </a:prstGeom>
          <a:ln w="0">
            <a:noFill/>
          </a:ln>
        </p:spPr>
      </p:pic>
      <p:pic>
        <p:nvPicPr>
          <p:cNvPr id="359" name="massgrave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38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lag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eople believed the Plague was caused by G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—30% of Europe’s population was destroyed by 1350, never to fully recover until 16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ho survived the Plague were better off because there now was more money for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ones faith was put to be put to the extre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rotestant Re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3" name="luther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935080" cy="3200400"/>
          </a:xfrm>
          <a:prstGeom prst="rect">
            <a:avLst/>
          </a:prstGeom>
          <a:ln w="0">
            <a:noFill/>
          </a:ln>
        </p:spPr>
      </p:pic>
      <p:pic>
        <p:nvPicPr>
          <p:cNvPr id="364" name="indulgenceletter-forstpeters-Mainz-1516-17-2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74372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rotestant Re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testant Reformation was a movement in the early 1500’s to break up the Catholic wor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October 31, 1517, a preacher named Martin Luther was fed up with the Catholic Church sell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ulgence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o purchase your freedom to Hea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ther post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95 Thesi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“things” for debate on his Church door against the teachings of the Papa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became a popular m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archs supported him, particularly England’s King Henry 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Times New Roman"/>
              </a:rPr>
              <a:t>King Henry VIII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8" name="HOH011_L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133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ing Henry VIII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ry had 6 w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could only produce one male heir to the thr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such, he wanted a divorce but the Catholic Church would grant him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had most of his wives execu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of the Protestant Reformation on continental Europe, Henry started his own Church: 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urch of Engl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6600"/>
                </a:solidFill>
                <a:latin typeface="Times New Roman"/>
              </a:rPr>
              <a:t>“…</a:t>
            </a:r>
            <a:r>
              <a:rPr b="0" i="1" lang="en-US" sz="4800" spc="-1" strike="noStrike">
                <a:solidFill>
                  <a:srgbClr val="cc6600"/>
                </a:solidFill>
                <a:latin typeface="Times New Roman"/>
              </a:rPr>
              <a:t>and traditional society continued to crumble.”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2" name="arthur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946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Religion  (800—1300)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ristian Church was the center of everything.  People lived according to their beliefs of the Chu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urch’s head was the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800 AD, the Pope crowned a German K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ly Roman Emper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rotect the Church from outside reli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name w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rlemag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742—814)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rles the Gre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1_0020b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392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Religion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magne believed his coronation meant that he would be equal to the Pope’s autho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there would be two rulers that people could follow—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ul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f the state)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er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f the church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d to dozens of years of struggle between Pope and King as to whom had the ultimate authority to r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Society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European society was centered arou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eud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system where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asa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rked and lived on land owned by a King’s relative or friend (Lord).  Th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ndlo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give them protec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image of a Lord and a peas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0318montyptitle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029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Society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udalism lasted until cities began to g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ies grew because peasants wanted to make choices in their lives (ex. To make $ 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this point, peasants believed their lives were controlled by God.  They would only live a short life on earth and then spend an eternity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urgat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judgment) after death.  Only Saints would enter into Hea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373712A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9:51:05Z</dcterms:created>
  <dc:creator>Leo Hayes High School</dc:creator>
  <dc:description/>
  <dc:language>en-US</dc:language>
  <cp:lastModifiedBy>district 18</cp:lastModifiedBy>
  <dcterms:modified xsi:type="dcterms:W3CDTF">2006-04-30T17:55:42Z</dcterms:modified>
  <cp:revision>22</cp:revision>
  <dc:subject/>
  <dc:title>The End of Traditional Society</dc:title>
</cp:coreProperties>
</file>